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6062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47A6-D4E8-4100-B640-3019A2F6B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8C5-57C2-4779-B85C-578ECD7B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545-EB7F-4EB0-94D5-77266D48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E48-7BBD-4C33-9A69-3341484D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6EC-83B2-4A17-AC01-9DA1E0FF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EDB-BFD2-4B85-B901-FB9934DE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5CF-C70B-4E24-A621-A58C548A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E9F-39E3-442A-8716-33E3D77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DD4-BC5D-4BC8-8488-7E9CF1E2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6AE-C5F5-4898-AB63-3CC39E88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933-E8DF-4534-874E-B0D1447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3BE-2265-4D59-8FA4-8883381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A5A-8369-4070-98EB-683DA14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606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60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A411-9B26-468C-9879-422EA1D31EC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08000" y="6154560"/>
            <a:ext cx="15476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165720"/>
            <a:ext cx="3419640" cy="692280"/>
          </a:xfrm>
          <a:prstGeom prst="rect">
            <a:avLst/>
          </a:prstGeom>
          <a:solidFill>
            <a:srgbClr val="fa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77840" y="112536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New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13040" y="63086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5f6062"/>
                </a:solidFill>
                <a:latin typeface="Arial"/>
              </a:rPr>
              <a:t>Auckland RoadSens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9080" y="324000"/>
            <a:ext cx="219528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Aim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Increase understanding on the directions of the new curriculum</a:t>
            </a:r>
            <a:br>
              <a:rPr sz="3200"/>
            </a:b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Reflect on opportunities the new direction provides for road safety education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5f6062"/>
              </a:solidFill>
              <a:latin typeface="Arial"/>
            </a:endParaRPr>
          </a:p>
        </p:txBody>
      </p:sp>
      <p:pic>
        <p:nvPicPr>
          <p:cNvPr id="59" name="Picture 4" descr="Cover of Listener"/>
          <p:cNvPicPr/>
          <p:nvPr/>
        </p:nvPicPr>
        <p:blipFill>
          <a:blip r:embed="rId1"/>
          <a:stretch/>
        </p:blipFill>
        <p:spPr>
          <a:xfrm>
            <a:off x="3348000" y="1916280"/>
            <a:ext cx="27892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5f6062"/>
                </a:solidFill>
                <a:latin typeface="Arial"/>
              </a:rPr>
              <a:t>Curriculum</a:t>
            </a:r>
            <a:br>
              <a:rPr sz="4000"/>
            </a:br>
            <a:r>
              <a:rPr b="1" lang="en-NZ" sz="4000" spc="-1" strike="noStrike">
                <a:solidFill>
                  <a:srgbClr val="5f6062"/>
                </a:solidFill>
                <a:latin typeface="Arial"/>
              </a:rPr>
              <a:t>Three Stage Process</a:t>
            </a:r>
            <a:endParaRPr b="1" lang="en-US" sz="40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147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National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– provides the framework &amp; direction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School – 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design and shape curriculum so teaching and learning is meaningful and beneficial to student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Classroom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- make interpretations for particular interests, needs &amp; talents of individuals  &amp; groups of student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The “Spirit” of Change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Flexibility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 - putting students at centre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Clarity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-  too important to leave to chance? 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Importance of </a:t>
            </a: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pedagogy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- </a:t>
            </a: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how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students learn determines what they learn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Connecting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life in school with wider needs of communities, society and employer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Participatory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processes – all voices important 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5f6062"/>
                </a:solidFill>
                <a:latin typeface="Arial"/>
              </a:rPr>
              <a:t>RoadSense supporting</a:t>
            </a:r>
            <a:br>
              <a:rPr sz="3600"/>
            </a:br>
            <a:r>
              <a:rPr b="1" lang="en-NZ" sz="3600" spc="-1" strike="noStrike">
                <a:solidFill>
                  <a:srgbClr val="5f6062"/>
                </a:solidFill>
                <a:latin typeface="Arial"/>
              </a:rPr>
              <a:t>the spirit of curriculum change</a:t>
            </a:r>
            <a:r>
              <a:rPr b="1" lang="en-NZ" sz="3600" spc="-1" strike="noStrike">
                <a:solidFill>
                  <a:srgbClr val="5f6062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Designing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your curriculum - 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including road safety education 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Meaningful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beneficial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keeping children safe on and around road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Connecting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life in school with wider needs of community – </a:t>
            </a:r>
            <a:r>
              <a:rPr b="0" i="1" lang="en-NZ" sz="2800" spc="-1" strike="noStrike">
                <a:solidFill>
                  <a:srgbClr val="5f6062"/>
                </a:solidFill>
                <a:latin typeface="Arial"/>
              </a:rPr>
              <a:t>transport is an Auckland issue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6062"/>
                </a:solidFill>
                <a:latin typeface="Arial"/>
              </a:rPr>
              <a:t>Cont..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Pedagogy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– </a:t>
            </a:r>
            <a:r>
              <a:rPr b="0" i="1" lang="en-NZ" sz="2800" spc="-1" strike="noStrike">
                <a:solidFill>
                  <a:srgbClr val="5f6062"/>
                </a:solidFill>
                <a:latin typeface="Arial"/>
              </a:rPr>
              <a:t>practical training, stages of development,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</a:t>
            </a:r>
            <a:r>
              <a:rPr b="0" i="1" lang="en-NZ" sz="2800" spc="-1" strike="noStrike">
                <a:solidFill>
                  <a:srgbClr val="5f6062"/>
                </a:solidFill>
                <a:latin typeface="Arial"/>
              </a:rPr>
              <a:t>making connections through inquiry and integration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Flexible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RSE relevant to students’ live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Participatory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student committees, parent involvement, stakeholders –PEO and RSC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H &amp; PE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learning area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– safety management , rights and responsibilitie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Slideshow-12"/>
          <p:cNvPicPr/>
          <p:nvPr/>
        </p:nvPicPr>
        <p:blipFill>
          <a:blip r:embed="rId1"/>
          <a:srcRect l="2740" t="15345" r="5918" b="17472"/>
          <a:stretch/>
        </p:blipFill>
        <p:spPr>
          <a:xfrm>
            <a:off x="826920" y="1989000"/>
            <a:ext cx="7561440" cy="4172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40856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7080" y="189000"/>
            <a:ext cx="45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Values in the N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771640" y="2276640"/>
            <a:ext cx="10796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900000" y="2131920"/>
            <a:ext cx="2044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2568600" cy="352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5f6062"/>
                </a:solidFill>
                <a:latin typeface="Arial"/>
              </a:rPr>
              <a:t>New Zealand Curriculum</a:t>
            </a:r>
            <a:br>
              <a:rPr sz="4000"/>
            </a:br>
            <a:r>
              <a:rPr b="1" lang="en-NZ" sz="4000" spc="-1" strike="noStrike">
                <a:solidFill>
                  <a:srgbClr val="5f6062"/>
                </a:solidFill>
                <a:latin typeface="Arial"/>
              </a:rPr>
              <a:t>Key Competencies</a:t>
            </a:r>
            <a:endParaRPr b="1" lang="en-US" sz="40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Using language, symbols 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and text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Managing self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Relating to other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Participating and contributing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3:19:58Z</dcterms:created>
  <dc:creator>Maryanne Mills</dc:creator>
  <dc:description/>
  <dc:language>en-US</dc:language>
  <cp:lastModifiedBy>chesna</cp:lastModifiedBy>
  <dcterms:modified xsi:type="dcterms:W3CDTF">2008-05-12T04:29:59Z</dcterms:modified>
  <cp:revision>45</cp:revision>
  <dc:subject/>
  <dc:title>Slide 1</dc:title>
</cp:coreProperties>
</file>